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5971B-6047-4114-8527-42D417082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331C2-1B5D-47DE-928A-2F071D8BE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EB49E-3C65-46B3-8FB4-0DA1528BD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98D66-FB9D-45F6-BCF2-A1724C07A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53856-A17E-42DC-8759-F06901E38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E8725-C352-44D0-AAB1-11261EE513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8AD0B-25DA-4FA2-A09E-DD55A7E40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27FEA-0822-4D88-BD82-E1292B3E7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1AE97-4C3A-4EDF-B72D-99DF6008F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2EB9C-54D3-411B-8E66-6443DAE33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97064-A33B-4EBF-AE91-92570EBFA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435C6-2779-40DF-A0B5-31DA1F1F2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4194A-B7EC-439B-A791-659E0EC7D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E3D83-C178-4D96-8F0F-DC798C77E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916E6-F0BF-49CA-AF02-5692269BB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02C4A-1EEA-4BBA-9A15-2969BDBC5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F165C6-7A76-4A16-9551-DDEA56B0A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D9001-AA05-428E-B30C-45921454F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587FE-70C9-4EF9-B8D4-96C8672D8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04C6E-4E89-4D3F-A8D6-9206C3F7A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063CE-557C-4506-B79D-D4BF62877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EA9AF-E029-4323-B851-41AFD2FFD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EFE00-01C1-440E-8AE4-C728A703E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8630C-4975-49DF-96EA-4C8BD7779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20DA-51DD-4D01-9188-4A4BE991D8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A1FF-F6A4-490B-9385-FE572CEEBC3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of.ssa Sonia Giusti</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tt.ssa Diomira Zompa</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tt.ssa Lucia Colagiovanni</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ott.ssa Monia di Sisto</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ferente Antonietta De Luca</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usicista Maurizio Pistilli </a:t>
            </a:r>
            <a:endParaRPr b="0" lang="en-US" sz="2400" spc="-1" strike="noStrike">
              <a:solidFill>
                <a:srgbClr val="000000"/>
              </a:solidFill>
              <a:latin typeface="Arial"/>
            </a:endParaRPr>
          </a:p>
        </p:txBody>
      </p:sp>
      <p:sp>
        <p:nvSpPr>
          <p:cNvPr id="98" name=""/>
          <p:cNvSpPr txBox="1"/>
          <p:nvPr/>
        </p:nvSpPr>
        <p:spPr>
          <a:xfrm>
            <a:off x="2164680" y="1250640"/>
            <a:ext cx="6414120" cy="1994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Anno scolastico 2006/2007</a:t>
            </a:r>
            <a:br>
              <a:rPr sz="4400"/>
            </a:br>
            <a:r>
              <a:rPr b="0" lang="en-US" sz="4400" spc="-1" strike="noStrike">
                <a:solidFill>
                  <a:srgbClr val="330033"/>
                </a:solidFill>
                <a:latin typeface="Times New Roman"/>
              </a:rPr>
              <a:t>Team di progetto in</a:t>
            </a:r>
            <a:br>
              <a:rPr sz="4400"/>
            </a:br>
            <a:r>
              <a:rPr b="0" lang="en-US" sz="4400" spc="-1" strike="noStrike">
                <a:solidFill>
                  <a:srgbClr val="330033"/>
                </a:solidFill>
                <a:latin typeface="Times New Roman"/>
              </a:rPr>
              <a:t>Antropologia culturale</a:t>
            </a:r>
            <a:endParaRPr b="0" lang="en-US" sz="4400" spc="-1" strike="noStrike">
              <a:solidFill>
                <a:srgbClr val="330033"/>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tà di apprendimento</a:t>
            </a:r>
            <a:br>
              <a:rPr sz="3800"/>
            </a:br>
            <a:r>
              <a:rPr b="0" lang="en-US" sz="3800" spc="-1" strike="noStrike">
                <a:solidFill>
                  <a:srgbClr val="330033"/>
                </a:solidFill>
                <a:latin typeface="Times New Roman"/>
              </a:rPr>
              <a:t>modulo  n. 2   </a:t>
            </a:r>
            <a:r>
              <a:rPr b="0" i="1" lang="en-US" sz="3800" spc="-1" strike="noStrike">
                <a:solidFill>
                  <a:srgbClr val="330033"/>
                </a:solidFill>
                <a:latin typeface="Times New Roman"/>
              </a:rPr>
              <a:t>Antropologia culturale</a:t>
            </a:r>
            <a:endParaRPr b="0" lang="en-US" sz="38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cetto di Etnia, Stato, Nazione, Cittadinanza;</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tnocentrismo critico di Ernesto de Martin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lazioni etniche e diritti uman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lussi migratori: incontri di culture o di person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dentità culturale e alterità cultur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sione di documenti audiovisiv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erifica fin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Viisita guidata al museo etnografico </a:t>
            </a:r>
            <a:r>
              <a:rPr b="0" i="1" lang="it-IT" sz="2400" spc="-1" strike="noStrike">
                <a:solidFill>
                  <a:srgbClr val="000000"/>
                </a:solidFill>
                <a:latin typeface="Arial"/>
              </a:rPr>
              <a:t>Luigi Pigorini</a:t>
            </a:r>
            <a:r>
              <a:rPr b="0" lang="it-IT" sz="2400" spc="-1" strike="noStrike">
                <a:solidFill>
                  <a:srgbClr val="000000"/>
                </a:solidFill>
                <a:latin typeface="Arial"/>
              </a:rPr>
              <a:t> di Ro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tà di apprendimento</a:t>
            </a:r>
            <a:br>
              <a:rPr sz="3800"/>
            </a:br>
            <a:r>
              <a:rPr b="0" lang="en-US" sz="3800" spc="-1" strike="noStrike">
                <a:solidFill>
                  <a:srgbClr val="330033"/>
                </a:solidFill>
                <a:latin typeface="Times New Roman"/>
              </a:rPr>
              <a:t>modulo  n. 3     </a:t>
            </a:r>
            <a:r>
              <a:rPr b="0" i="1" lang="en-US" sz="3800" spc="-1" strike="noStrike">
                <a:solidFill>
                  <a:srgbClr val="330033"/>
                </a:solidFill>
                <a:latin typeface="Times New Roman"/>
              </a:rPr>
              <a:t>Narrativa popolare</a:t>
            </a: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l patrimonio demoetnoantropologic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Beni materiali e immateriali: territorio, rilevamento, documentazio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narrativa orale: la fiab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rfologia della fiaba. Personaggi, funzioni, modelli: le tesi di Propp e Lévi-Strau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mparazione con le fiabe di altra cultur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Fiabe algerine, racconti, proverb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0033"/>
                </a:solidFill>
                <a:latin typeface="Times New Roman"/>
              </a:rPr>
              <a:t>Visita guidata al museo Etnografico</a:t>
            </a:r>
            <a:br>
              <a:rPr sz="2800"/>
            </a:br>
            <a:r>
              <a:rPr b="0" i="1" lang="it-IT" sz="2800" spc="-1" strike="noStrike">
                <a:solidFill>
                  <a:srgbClr val="330033"/>
                </a:solidFill>
                <a:latin typeface="Times New Roman"/>
              </a:rPr>
              <a:t>Luigi Pigorini</a:t>
            </a:r>
            <a:r>
              <a:rPr b="0" lang="it-IT" sz="2800" spc="-1" strike="noStrike">
                <a:solidFill>
                  <a:srgbClr val="330033"/>
                </a:solidFill>
                <a:latin typeface="Times New Roman"/>
              </a:rPr>
              <a:t> di Roma, www.pigorini.arti.beniculturali.it</a:t>
            </a:r>
            <a:endParaRPr b="0" lang="en-US" sz="28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 descr=""/>
          <p:cNvPicPr/>
          <p:nvPr/>
        </p:nvPicPr>
        <p:blipFill>
          <a:blip r:embed="rId1"/>
          <a:stretch/>
        </p:blipFill>
        <p:spPr>
          <a:xfrm>
            <a:off x="1403280" y="1557360"/>
            <a:ext cx="7272360" cy="463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200" spc="-1" strike="noStrike">
                <a:solidFill>
                  <a:srgbClr val="330033"/>
                </a:solidFill>
                <a:latin typeface="Times New Roman"/>
              </a:rPr>
              <a:t>Sezioni del Museo </a:t>
            </a:r>
            <a:r>
              <a:rPr b="0" i="1" lang="it-IT" sz="4200" spc="-1" strike="noStrike">
                <a:solidFill>
                  <a:srgbClr val="330033"/>
                </a:solidFill>
                <a:latin typeface="Times New Roman"/>
              </a:rPr>
              <a:t>Luigi Pigorini</a:t>
            </a:r>
            <a:endParaRPr b="0" lang="en-US" sz="4200" spc="-1" strike="noStrike">
              <a:solidFill>
                <a:srgbClr val="330033"/>
              </a:solidFill>
              <a:latin typeface="Times New Roman"/>
            </a:endParaRPr>
          </a:p>
        </p:txBody>
      </p:sp>
      <p:sp>
        <p:nvSpPr>
          <p:cNvPr id="1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zioni etnografiche:</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rica</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ia</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ceania</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eriche</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lnSpc>
                <a:spcPct val="90000"/>
              </a:lnSpc>
              <a:spcBef>
                <a:spcPts val="9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leontolog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000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0033"/>
                </a:solidFill>
                <a:latin typeface="Times New Roman"/>
              </a:rPr>
              <a:t>Premessa   </a:t>
            </a:r>
            <a:r>
              <a:rPr b="0" lang="en-US" sz="3800" spc="-1" strike="noStrike">
                <a:solidFill>
                  <a:srgbClr val="330033"/>
                </a:solidFill>
                <a:latin typeface="Times New Roman"/>
              </a:rPr>
              <a:t>                </a:t>
            </a:r>
            <a:br>
              <a:rPr sz="3800"/>
            </a:br>
            <a:endParaRPr b="0" lang="en-US" sz="38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 didattica antropologica intende rivolgersi agli studenti delle scuole secondarie attraverso la conoscenza delle diversità culturali, cercando di abbattere il pregiudizio.  La convivenza civile, di cui tanto si parla non è una disciplina specifica, in quanto tutti i saperi confluiscono in essa, l’antropologia culturale può dare un immenso contributo, facendo tesoro dei saperi di antropologi, italiani e non , frutto di anni di studi e ricerch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emess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o scopo è di affiancare alla cultura scolastica la cultura del vissuto, in modo che la formazione dell’individuo possa essere ampia e capace di orientarsi nella complessità del sociale. Le notizie e gli eventi drammatici che fanno ormai parte della cronaca quotidiana, sono vissuti in diretta grazie alla rapidità dei sistemi di informazione, con la conseguenza di sottrarsi ad una necessaria riflessione che tenga conto sia delle ragioni storiche che delle cause contingenti.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emessa</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enza cadere in una visione narcisistica o totalmente autoreferenziale, pensiamo che, l’interesse per i modi da noi diversi di pensare e di agire, i diversi valori delle religioni, i gusti “altri”, costituiscono un ottimo antidoto, come pure la base per un’educazione all’accettazione della compresenza di differenti culture ed alla convivenza armonica di popoli diversi.</a:t>
            </a:r>
            <a:endParaRPr b="0" lang="en-US" sz="2400" spc="-1" strike="noStrike">
              <a:solidFill>
                <a:srgbClr val="000000"/>
              </a:solidFill>
              <a:latin typeface="Arial"/>
            </a:endParaRPr>
          </a:p>
          <a:p>
            <a:pPr marL="343080" indent="-343080">
              <a:lnSpc>
                <a:spcPct val="10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la conoscenza delle culture “altre”,è il fondamento del dialogo interreligioso, necessario per l’educazione alla pace, contro il razzismo e le discriminazioni.</a:t>
            </a:r>
            <a:endParaRPr b="0" lang="en-US" sz="2400" spc="-1" strike="noStrike">
              <a:solidFill>
                <a:srgbClr val="000000"/>
              </a:solidFill>
              <a:latin typeface="Arial"/>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                                                            </a:t>
            </a:r>
            <a:r>
              <a:rPr b="0" i="1" lang="it-IT" sz="2000" spc="-1" strike="noStrike">
                <a:solidFill>
                  <a:srgbClr val="000000"/>
                </a:solidFill>
                <a:latin typeface="Times New Roman"/>
              </a:rPr>
              <a:t>Diomira Zompa</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iettivi educativi e formativi</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luppare la conoscenza di culture “divers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ruire comportamenti motivati e consapevoli nei confronti dell’altro e nel riconoscimento della dignità umana come valore assolut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bilizzare al rispetto e all’accettazione dei valori e dei diritti universal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zione alla pace, al pluralismo inteso come ricchezza del genere uman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viluppare la consapevolezza delle diversità culturali, quindi storiche, necessaria alla conoscenza del sé stess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biettivi educativi e formativi</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battere il pregiudizio, quasi sempre motivo di scontro, incomprensione, odio e razzism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dere i sincretismi culturali e religiosi, le persistenze e le trasformazioni delle tradizioni popolari, presenti sul territori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viluppare il senso critico degli allievi, importante per lo sviluppo armonico della persona um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ologia e strategie</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flessioni sui concetti più semplici delle teorie antropologich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zo di documenti audiovisivi, didattico/scientifi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zione di miti e riti, di altre “cul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ecuzione dal vivo di musiche popolari del Mediterraneo, con spiegazione teoric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nsione e comparazione dell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fologia delle fiab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330033"/>
                </a:solidFill>
                <a:latin typeface="Times New Roman"/>
              </a:rPr>
              <a:t>Unità di apprendimento</a:t>
            </a:r>
            <a:br>
              <a:rPr sz="3800"/>
            </a:br>
            <a:r>
              <a:rPr b="0" lang="it-IT" sz="3800" spc="-1" strike="noStrike">
                <a:solidFill>
                  <a:srgbClr val="330033"/>
                </a:solidFill>
                <a:latin typeface="Times New Roman"/>
              </a:rPr>
              <a:t>      modulo  n. 1    </a:t>
            </a:r>
            <a:r>
              <a:rPr b="0" i="1" lang="it-IT" sz="3800" spc="-1" strike="noStrike">
                <a:solidFill>
                  <a:srgbClr val="330033"/>
                </a:solidFill>
                <a:latin typeface="Times New Roman"/>
              </a:rPr>
              <a:t>Etnomusicologia</a:t>
            </a: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zione alle musiche del Mediterrane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 come linguaggio immediato ed intercultural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 del Mediterraneo con particolare attenzione alle affinità musicali/culturali tra i popoli del Mediterraneo;</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a popolare (aspetti storici e culturali);</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 le musiche popolari del Mediterraneo:le musiche popolari italiane;</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antella e tarantismo, genesi e sviluppo di una musica popol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nità di apprendimento</a:t>
            </a:r>
            <a:br>
              <a:rPr sz="3800"/>
            </a:br>
            <a:r>
              <a:rPr b="0" lang="en-US" sz="3800" spc="-1" strike="noStrike">
                <a:solidFill>
                  <a:srgbClr val="330033"/>
                </a:solidFill>
                <a:latin typeface="Times New Roman"/>
              </a:rPr>
              <a:t>modulo  n 2    </a:t>
            </a:r>
            <a:r>
              <a:rPr b="0" i="1" lang="en-US" sz="3800" spc="-1" strike="noStrike">
                <a:solidFill>
                  <a:srgbClr val="330033"/>
                </a:solidFill>
                <a:latin typeface="Times New Roman"/>
              </a:rPr>
              <a:t>Antropologia culturale  </a:t>
            </a: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troduzione all’antropologia culturale: concetto di “cultur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incretismi culturali e religiosi: esempi presenti sul nostro territori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a forma di comunicazione: simbolismo mitico-ritua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e e cult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isione documenti audiovisivi: documentario didattico-scientific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09:32:22Z</dcterms:created>
  <dc:creator>Work</dc:creator>
  <dc:description/>
  <dc:language>en-US</dc:language>
  <cp:lastModifiedBy>Work</cp:lastModifiedBy>
  <dcterms:modified xsi:type="dcterms:W3CDTF">2007-03-19T08:54:20Z</dcterms:modified>
  <cp:revision>7</cp:revision>
  <dc:subject/>
  <dc:title>Diapositiva 1</dc:title>
</cp:coreProperties>
</file>